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3F03-81BE-480C-8B80-D8D23F0B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6954-CE18-483C-89F3-547E3235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381-8A56-405F-B994-0C6370EE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F65F-717B-4F59-AD8C-CFAEC43C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0471-D637-43F6-A78E-49A9CF75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7D45-D384-4F77-B71B-AFCEBAE2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3779-8209-4D66-BC2D-E70D1D23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5E08-3AC6-4DDA-AE25-8A24A6B1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9E36-8AC2-4D87-A7A1-4B5C9FCD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B5FE-6B10-482D-BA30-C0388A17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694F-8E13-42D0-BAE7-07B2045A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6B40-AE5F-43BD-A91D-1F6DC432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046A-3D34-49FA-8D47-E5E28832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9175-F7EE-411A-B30D-EDD01E04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042B-B62C-42E1-8FD1-19A03920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1536-4B59-4521-9D53-6C70AF29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C33E-8D05-429C-BD22-51555C2F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9C48-1BD6-4083-A474-92F3BD2C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7E81-DD09-4CE0-A9C2-E49E50D2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85F1-0339-44AB-A460-3D12DDA3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DD57-8A50-470A-BD31-7D17922F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CB33-F119-46EA-800F-A44672D4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833-175D-4A9C-8C3C-DCA03B22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081-4D8F-4C8B-9A2D-792D0DDB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95AB-9BC4-48EA-82AF-DFAF44AD3A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FEA2-DB56-4228-8AE6-9FBC5A0160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2600" y="2873520"/>
            <a:ext cx="785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Two Philosophies of Educa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wo Views of Educ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715000" y="4495680"/>
            <a:ext cx="25146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ess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4495680"/>
            <a:ext cx="2895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ditiona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raditionalis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ok at the school as society’s agency for guiding individuals from unsocial modes f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lieves in the importance of basic subjects – language arts, math, science, hist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raditionalis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ivilization is a social produc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ditionalists are suspicious of change as our knowledge and culture are too precious to chan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raditionalis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raditionalists see the adult as the mature and wise judge of what the young should lear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raditionalis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ditionalists emphasize academic standar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lassroom should be teacher-center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urriculum is content bas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raditionalis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mphasize structure and discipl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ly on grading, tracking, and grouping children by abi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raditionalis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e value of rote memorization and dri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e purpose of education is to pass on a body of knowledge (factual and cultural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raditionalis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st learn basic skills before they can solve probl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eacher’s role is to transmit meanings and truth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raditionalis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e knowledge systems that contain meanings and truths independent of what individuals thin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raditionalis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bject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Reading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 Reliance on a phonics approach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Mathematic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 Reliance on direct instruction; drill, computation skills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istorical Persp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to – Education is aimed at the good of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ocie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22669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raditionalis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bject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ocial studi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focus on civics, history, geography, the American heritage, and cross-cultural studies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raditionalis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Grad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are assigned by comparing performance with age/grade peers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ogress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ressive education began to take shape in 1875 and formally ended in the 1950’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ogress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ever, progressive movements still are exists – today the most obvious is constructivis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ogress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pose rote memorization, drill, stern discipline, and the learning of fixed subject matter defined in adult terms with little relation to the chil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ogress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al life-experiences is the most valuable teach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ogress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ressives favor chan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ressives see history as dynamic – chang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ogress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erimentation is the test of any idea or 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oal is that students learn to think for themselv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ogress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motes developmentally appropriate practi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cus on problem solv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ogress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e context cues to learn to rea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eachers role is to help students construct meaning and truth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istorical Persp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to –Believed that individuals were born with different temperaments, capacities, and intellectual endowments.  All were to work toward th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well-ordered, well-balanced socie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ogress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bject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Reading.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Reliance on a whole-word approach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Mathematic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 Reliance on discovery and student-initiated learning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ogress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bject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ocial studi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focus is on diversity, multiculturalism, social concerns and social responsibilities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ogress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Grad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are downplayed in favor of teacher comments on progress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very decision made in education is made based from a traditionalist or progressivist point of view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istorical Persp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ousseau – believed education was for the good of th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individu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Rousseau d'aprés Latour, PP 990328"/>
          <p:cNvPicPr/>
          <p:nvPr/>
        </p:nvPicPr>
        <p:blipFill>
          <a:blip r:embed="rId1"/>
          <a:stretch/>
        </p:blipFill>
        <p:spPr>
          <a:xfrm>
            <a:off x="3657600" y="3048120"/>
            <a:ext cx="21906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istorical Persp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ousseau – Basic tenet is that the young child should learn freely and natural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usseau’s vision was the unique worth of each individual and the need for freedom in education to achieve individuality and personh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o Major Question – Is education to promote society or the individual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istorical Persp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wey – believed that both aims were achievab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9880" y="3733920"/>
            <a:ext cx="19908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istorical Persp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wey – At the heart of his view was the idea of learning from experie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istorical Persp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wey – believed that we learn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y doing and from experience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ecame the slogan of progressive educa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23:04:25Z</dcterms:created>
  <dc:creator>User</dc:creator>
  <dc:description/>
  <dc:language>en-US</dc:language>
  <cp:lastModifiedBy>Carlette Hardin</cp:lastModifiedBy>
  <dcterms:modified xsi:type="dcterms:W3CDTF">2005-09-25T18:31:27Z</dcterms:modified>
  <cp:revision>8</cp:revision>
  <dc:subject/>
  <dc:title>Two Philosophies of Education</dc:title>
</cp:coreProperties>
</file>